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F0C-92B9-4C0C-BD05-F24E9293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C3C-05A4-4E97-A5C7-9358DCF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190-2D1C-44BD-946E-C916D043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370-AFC6-4636-A307-2E8B357C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B76B-FCB1-4E18-86D9-17CE44D8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6212-411A-40D6-9CF4-7703CF1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E516-9120-45A5-8B97-AD116D7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A0AC-2644-4686-B77F-6412E28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A5B7-9AF3-4573-89C7-A5E027A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2BF1-A3D7-4B70-9683-C53DD58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E30-9919-4152-AFC4-7286E91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65A-9F41-4F3D-B0C9-22E2BDF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912-6656-497F-B6CA-FC9702E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0C0-8ED7-4B65-A998-F857A14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3177-26E3-4091-8107-CB5393B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6B1-311D-4F78-97FE-7211A800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225-488D-42D9-A43A-43C9D356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627-95BF-4942-AE6B-21444B9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9EB-A8CF-4EC3-AF30-765C7E1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427-35DE-4E29-8262-6995AAC5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872-7868-49E3-855E-B5A8ABA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AE8-2F47-4B7E-81A6-D868B99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894-E84B-421D-8CF1-484EB9F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35E-8079-41CA-AC12-2DAB2E9B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02F-E7E1-40F5-AF3E-9F1BFAF796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D956-2BC2-415E-B291-CD0C774BE9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142920" y="1527120"/>
            <a:ext cx="8643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βαπτισα ποτε, ἀλλα νυν αὐτος βαπτισ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φωνη ἐκ του οὐρανου ἐκηρυξεν∙ Και ἐδοξασα αὐτο και παλιν δοξασ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δαιμονια πολλα ἐξεβαλλεν ἐν ἑκαστῳ τοπ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καλεσεν και ἐσωσεν αὐτους∙ τοτε προσεκυνησαν αὐτ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παραλαμβανεν τα τεκνα και τα τεκνα ἠκουσεν του Ἰησ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ὁγιος ἀγγελος ἠνοιγεν τους οὐραν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190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14200" y="1343160"/>
            <a:ext cx="835848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καλεσεις το τεκνον Ἰησουν∙ σωσει τον λαον αὐτου ἀπο των ἁμαρτιων αὐτ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λαλησαν τον λογον του κυριου τοις πιστοις ἀδελφοις ἐν τῃ οἰκιᾳ αὐτ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w we will bless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have already written (= I already wrote) to them, but now I will writ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 revealed his love when he wrote to 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sked for signs and cried out with a loud voice to Jes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28520" y="1374840"/>
            <a:ext cx="90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υλος και ὁ Πετρος ἐγραψαν περι των ἐργων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ἐδιδωξαν τους ἀδελφους ἐν τῃ συναγωγῃ ἐν τῳ σαββα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υφλοι ἀναβλεψαν, χωλοι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ησαν και κωφοι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f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) ἠκο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υλος ποτε ἐδιωκεν την ἐκκλησιαν ἀλλα οὐκετι∙ ὁ θεος ἐσω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ωξεν τον λαον αὐτου ἀπο του πονη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ησατε ποτε κατα τον κοσμον και τον πονηρον, ἀλλα νυν προσεχετε τῳ κυριῳ της δοξης και οἰκοδομησετε τους ἀδελφ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7680" y="10954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14200" y="134316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ψομεν ἀγγελους ἀρτι προς αὐτους, ἀλλ’ οὐκετι πεισουσιν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Τιμοθεος ἐκηρυξεν παντοτε το εὐαγγελιον ἀλλ’οὐτω ἐπιστευετε τοις λογοι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built a house beside 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ithful ones worshipped Christ, and the evil ones were persecu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the great temple exist ag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preaching the good news and was baptizing the saints (holy 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071880" y="1109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525680"/>
            <a:ext cx="835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9.13-21 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Ἄγουσιν αὐτὸν πρὸς τοὺς Φαρισαίους τόν ποτε τυφλόν. 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14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ἦ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wa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δὲ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d/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άββατον ἐν </a:t>
            </a:r>
            <a:r>
              <a:rPr b="0" lang="en-US" sz="2200" spc="-1" strike="noStrike">
                <a:solidFill>
                  <a:srgbClr val="000000"/>
                </a:solidFill>
                <a:latin typeface="Gentium"/>
              </a:rPr>
              <a:t>ᾗ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ἡμέρᾳ τὸν πηλὸ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ud/cl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ποίησεν ὁ Ἰησοῦς καὶ ἀνέῳξε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οῦ τοὺς ὀφαλμού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...</a:t>
            </a:r>
            <a:r>
              <a:rPr b="0" lang="en-GB" sz="2200" spc="-1" strike="noStrike" baseline="30000">
                <a:solidFill>
                  <a:srgbClr val="000000"/>
                </a:solidFill>
                <a:latin typeface="Gentium"/>
              </a:rPr>
              <a:t>16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ἔλεγον οὖ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κ τῶν Φαρισαίων τινέ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.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Οὐκ ἔστιν οὗτο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is 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ρὰ θεοῦ ὁ ἄνθρωπος,  ὅτ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ὸ σάββατον  οὐ τηρεῖ. ἄλλοι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δὲ ἔλεγον, Πῶς δύναται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is able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ἄνθρωπος ἁμαρτωλὸ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ful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ιαῦτα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ch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ημεῖα ποιεῖ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;...</a:t>
            </a:r>
            <a:r>
              <a:rPr b="0" lang="en-GB" sz="2200" spc="-1" strike="noStrike" baseline="30000">
                <a:solidFill>
                  <a:srgbClr val="000000"/>
                </a:solidFill>
                <a:latin typeface="Gentium"/>
              </a:rPr>
              <a:t>17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έγουσιν οὖν τῷ τυφλῷ πάλιν, Τί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ὺ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– nom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έγεις περὶ αὐτοῦ, ὅτι ἠνέῳξέ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] σ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– g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ὺς ὀφθαλμούς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ὁ δὲ εἶπεν ὅτι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t he 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ροφήτη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στίν. 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18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Οὐκ ἐπίστευσαν οὖν οἱ Ἰουδαῖοι περὶ αὐτοῦ ὅτι ἦν τυφλὸς καὶ ἀνέβλεψεν ἕως ὅτου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φώνησαν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φωνεω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call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ὺς γονεῖ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αὐτοῦ...</a:t>
            </a:r>
            <a:r>
              <a:rPr b="0" lang="el-GR" sz="2200" spc="-1" strike="noStrike" baseline="30000">
                <a:solidFill>
                  <a:srgbClr val="000000"/>
                </a:solidFill>
                <a:latin typeface="Gentium"/>
              </a:rPr>
              <a:t>21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πῶς δὲ νῦν βλέπει οὐκ οἴδαμεν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 know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ἢ τίς 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o?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i="1" lang="en-GB" sz="20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ἤνοιξεν αὐτοῦ τοῦς ὀφθαλμοὺς ἡμεῖς 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οὐκ οἴδαμε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57:30Z</dcterms:created>
  <dc:creator>Sarah</dc:creator>
  <dc:description/>
  <dc:language>en-US</dc:language>
  <cp:lastModifiedBy>Sarah</cp:lastModifiedBy>
  <dcterms:modified xsi:type="dcterms:W3CDTF">2009-07-09T18:11:37Z</dcterms:modified>
  <cp:revision>46</cp:revision>
  <dc:subject/>
  <dc:title>Slide 1</dc:title>
</cp:coreProperties>
</file>